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highchime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EED-21F7-42CE-ABEF-6948FCA1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A36-C52C-4288-B7C4-E6C707D3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F99-BD80-4F28-8019-3DDCE79D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11D-60D6-4221-A155-1D51FF7E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C17-0DAD-4695-9946-31AA4EE0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E9C-D852-43D5-9BC7-01C06244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31A-1497-4FCA-9351-40D54953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70D-7334-411F-AB72-3D60631F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675-3F29-4627-8DD0-A02D0EC5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D7D-A2DE-453C-A3B3-72E7AE52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AE5-6743-4E08-AACD-42104A00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636-9924-444C-B9C9-344C9E8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3323-38BD-41BB-9BFF-7DBD2100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zapbig0g.wav"/><Relationship Id="rId4" Type="http://schemas.openxmlformats.org/officeDocument/2006/relationships/audio" Target="../media/zipdn102.wav"/><Relationship Id="rId5" Type="http://schemas.openxmlformats.org/officeDocument/2006/relationships/audio" Target="../media/zipdn102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ipdn102.wav"/><Relationship Id="rId9" Type="http://schemas.openxmlformats.org/officeDocument/2006/relationships/audio" Target="../media/zipdn10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audio" Target="../media/caralarmoff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zipdn102.wav"/><Relationship Id="rId14" Type="http://schemas.openxmlformats.org/officeDocument/2006/relationships/audio" Target="../media/zipdn102.wav"/><Relationship Id="rId15" Type="http://schemas.openxmlformats.org/officeDocument/2006/relationships/audio" Target="../media/caralarmoff.wav"/><Relationship Id="rId16" Type="http://schemas.openxmlformats.org/officeDocument/2006/relationships/audio" Target="../media/caralarmoff.wav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highchime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dn102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caralarmoff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5760" y="137304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. 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/>
          <p:nvPr/>
        </p:nvCxnSpPr>
        <p:spPr>
          <a:xfrm>
            <a:off x="2898720" y="2163600"/>
            <a:ext cx="36432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" name=""/>
          <p:cNvCxnSpPr/>
          <p:nvPr/>
        </p:nvCxnSpPr>
        <p:spPr>
          <a:xfrm flipH="1">
            <a:off x="2437920" y="2174400"/>
            <a:ext cx="332640" cy="29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073240" y="247644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16240" y="2490840"/>
                <a:ext cx="662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8" name=""/>
          <p:cNvCxnSpPr/>
          <p:nvPr/>
        </p:nvCxnSpPr>
        <p:spPr>
          <a:xfrm>
            <a:off x="3608280" y="3057480"/>
            <a:ext cx="36432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9" name=""/>
          <p:cNvCxnSpPr/>
          <p:nvPr/>
        </p:nvCxnSpPr>
        <p:spPr>
          <a:xfrm flipH="1">
            <a:off x="3147480" y="3068280"/>
            <a:ext cx="332640" cy="29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95760" y="3357720"/>
                <a:ext cx="455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916440" y="3363840"/>
                <a:ext cx="412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2" name=""/>
          <p:cNvCxnSpPr/>
          <p:nvPr/>
        </p:nvCxnSpPr>
        <p:spPr>
          <a:xfrm>
            <a:off x="4197240" y="3951000"/>
            <a:ext cx="364320" cy="324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3" name=""/>
          <p:cNvCxnSpPr/>
          <p:nvPr/>
        </p:nvCxnSpPr>
        <p:spPr>
          <a:xfrm flipH="1">
            <a:off x="3736440" y="3962520"/>
            <a:ext cx="332640" cy="29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38360" y="427824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9440" y="431172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36840" y="1538280"/>
                <a:ext cx="2995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329520" y="1471680"/>
                <a:ext cx="1871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5760" y="1373040"/>
            <a:ext cx="17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.  9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2898720" y="2163600"/>
            <a:ext cx="36432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" name=""/>
          <p:cNvCxnSpPr/>
          <p:nvPr/>
        </p:nvCxnSpPr>
        <p:spPr>
          <a:xfrm flipH="1">
            <a:off x="2437920" y="2174400"/>
            <a:ext cx="332640" cy="29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073240" y="247644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74840" y="2470320"/>
                <a:ext cx="744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5" name=""/>
          <p:cNvCxnSpPr/>
          <p:nvPr/>
        </p:nvCxnSpPr>
        <p:spPr>
          <a:xfrm>
            <a:off x="3608280" y="3057480"/>
            <a:ext cx="364320" cy="3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" name=""/>
          <p:cNvCxnSpPr/>
          <p:nvPr/>
        </p:nvCxnSpPr>
        <p:spPr>
          <a:xfrm flipH="1">
            <a:off x="3147480" y="3068280"/>
            <a:ext cx="332640" cy="297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95760" y="3336840"/>
                <a:ext cx="4554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95560" y="3363840"/>
                <a:ext cx="454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460680" y="1552680"/>
                <a:ext cx="2340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08680" y="1471680"/>
                <a:ext cx="1871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36880" y="138744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4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2"/>
          </p:cNvCxnSpPr>
          <p:nvPr/>
        </p:nvCxnSpPr>
        <p:spPr>
          <a:xfrm>
            <a:off x="2501640" y="2301840"/>
            <a:ext cx="92916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2"/>
          </p:cNvCxnSpPr>
          <p:nvPr/>
        </p:nvCxnSpPr>
        <p:spPr>
          <a:xfrm flipH="1">
            <a:off x="1559880" y="2301480"/>
            <a:ext cx="942120" cy="55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352520" y="285444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22720" y="286848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8" name=""/>
          <p:cNvCxnSpPr/>
          <p:nvPr/>
        </p:nvCxnSpPr>
        <p:spPr>
          <a:xfrm>
            <a:off x="1560600" y="347184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9" name=""/>
          <p:cNvCxnSpPr/>
          <p:nvPr/>
        </p:nvCxnSpPr>
        <p:spPr>
          <a:xfrm flipH="1">
            <a:off x="1169280" y="3471840"/>
            <a:ext cx="39132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17560" y="37353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938240" y="374184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033720" y="1579680"/>
                <a:ext cx="2901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932440" y="1471680"/>
                <a:ext cx="18241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84" name=""/>
          <p:cNvCxnSpPr/>
          <p:nvPr/>
        </p:nvCxnSpPr>
        <p:spPr>
          <a:xfrm>
            <a:off x="3430440" y="3485880"/>
            <a:ext cx="424800" cy="33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5" name=""/>
          <p:cNvCxnSpPr/>
          <p:nvPr/>
        </p:nvCxnSpPr>
        <p:spPr>
          <a:xfrm flipH="1">
            <a:off x="3029760" y="3485880"/>
            <a:ext cx="400680" cy="316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698920" y="3773520"/>
                <a:ext cx="414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798720" y="3786120"/>
                <a:ext cx="412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143000" y="1406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36880" y="138744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5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2"/>
          </p:cNvCxnSpPr>
          <p:nvPr/>
        </p:nvCxnSpPr>
        <p:spPr>
          <a:xfrm>
            <a:off x="2501640" y="2301840"/>
            <a:ext cx="92916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91" idx="2"/>
          </p:cNvCxnSpPr>
          <p:nvPr/>
        </p:nvCxnSpPr>
        <p:spPr>
          <a:xfrm flipH="1">
            <a:off x="1559880" y="2301480"/>
            <a:ext cx="942120" cy="55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08160" y="2854440"/>
                <a:ext cx="704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222720" y="2868480"/>
                <a:ext cx="4143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6" name=""/>
          <p:cNvCxnSpPr/>
          <p:nvPr/>
        </p:nvCxnSpPr>
        <p:spPr>
          <a:xfrm>
            <a:off x="1560600" y="347184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7" name=""/>
          <p:cNvCxnSpPr/>
          <p:nvPr/>
        </p:nvCxnSpPr>
        <p:spPr>
          <a:xfrm flipH="1">
            <a:off x="1169280" y="3471840"/>
            <a:ext cx="39132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38080" y="371484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938240" y="374184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60600" y="1579680"/>
                <a:ext cx="2248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722920" y="1486080"/>
                <a:ext cx="1778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143000" y="1406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5000" y="1387440"/>
            <a:ext cx="12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0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2"/>
          </p:cNvCxnSpPr>
          <p:nvPr/>
        </p:nvCxnSpPr>
        <p:spPr>
          <a:xfrm>
            <a:off x="2567160" y="2301840"/>
            <a:ext cx="86400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105" idx="2"/>
          </p:cNvCxnSpPr>
          <p:nvPr/>
        </p:nvCxnSpPr>
        <p:spPr>
          <a:xfrm flipH="1">
            <a:off x="1560240" y="2301480"/>
            <a:ext cx="1007280" cy="55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28680" y="2874960"/>
                <a:ext cx="663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98880" y="2868480"/>
                <a:ext cx="6634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10" name=""/>
          <p:cNvCxnSpPr/>
          <p:nvPr/>
        </p:nvCxnSpPr>
        <p:spPr>
          <a:xfrm>
            <a:off x="1560600" y="347184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 flipH="1">
            <a:off x="1169280" y="3471840"/>
            <a:ext cx="39132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17560" y="373536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17720" y="3741840"/>
                <a:ext cx="4539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03640" y="1536840"/>
                <a:ext cx="2997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153120" y="1442880"/>
                <a:ext cx="2573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43000" y="1406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3411360" y="344952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flipH="1">
            <a:off x="3020760" y="3449520"/>
            <a:ext cx="39096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68680" y="371304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89360" y="3719520"/>
                <a:ext cx="4129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5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Find the prime factorization of eac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5000" y="1387440"/>
            <a:ext cx="12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31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3" idx="2"/>
          </p:cNvCxnSpPr>
          <p:nvPr/>
        </p:nvCxnSpPr>
        <p:spPr>
          <a:xfrm>
            <a:off x="2567160" y="2301840"/>
            <a:ext cx="864000" cy="567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3" idx="2"/>
          </p:cNvCxnSpPr>
          <p:nvPr/>
        </p:nvCxnSpPr>
        <p:spPr>
          <a:xfrm flipH="1">
            <a:off x="1560240" y="2301480"/>
            <a:ext cx="1007280" cy="55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352520" y="2854440"/>
                <a:ext cx="41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057480" y="2868480"/>
                <a:ext cx="746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436920" y="1536840"/>
                <a:ext cx="2529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143000" y="1406520"/>
            <a:ext cx="9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6.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3411360" y="3449520"/>
            <a:ext cx="43416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31" name=""/>
          <p:cNvCxnSpPr/>
          <p:nvPr/>
        </p:nvCxnSpPr>
        <p:spPr>
          <a:xfrm flipH="1">
            <a:off x="3020760" y="3449520"/>
            <a:ext cx="390960" cy="27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668680" y="3692520"/>
                <a:ext cx="455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672000" y="3726000"/>
                <a:ext cx="618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33524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55, 6 – 5 #1 – 16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 5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8T11:58:58Z</dcterms:modified>
  <cp:revision>75</cp:revision>
  <dc:subject/>
  <dc:title>Slide 1</dc:title>
</cp:coreProperties>
</file>